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0.jpeg" ContentType="image/jpeg"/>
  <Override PartName="/ppt/media/image13.wmf" ContentType="image/x-wmf"/>
  <Override PartName="/ppt/media/image30.wmf" ContentType="image/x-wmf"/>
  <Override PartName="/ppt/media/image3.png" ContentType="image/png"/>
  <Override PartName="/ppt/media/image33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14B-0C68-4098-835B-8196B646C0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9386-8FE1-4149-8D1C-A36566A861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0F6F-174A-4F46-8B7E-8B847D6045D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612C-5452-4CCE-B111-FA236264C3A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BA32-6E04-443B-AC78-6A3BB8F99D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5A3-F9B9-4115-8853-0D870272B0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518F-93DC-4670-96B4-FEED879FF1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5D2A-560A-45E6-9935-89704FE10D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5D7B-F702-48F1-892C-766F2DA8BB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7460-12B5-4C71-8CE0-465F141AB5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C389-E900-487D-A3BC-52AF84671C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2750-BDEB-473B-AA0B-B8244426A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22E-1B1F-4B2D-BF16-2DAA945748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109-77D0-473A-80B5-9CE1AE9420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638-13F1-47A1-94EE-A49872C4B1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E6D2-E24D-4CAD-9E72-AB7C178167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F6C-3887-425F-AAB5-504DC814D1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A98-17AA-4C5D-904F-7F5957E5CE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004-44D8-418B-A4C8-A9F699D6C2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5545-1285-44A2-BD7A-7662C56E7C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E3C3-8ECD-43C7-879B-3E7545DB5E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90AA-CF3D-47BD-9E94-1F69234356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060-4503-4701-B384-C375BEC7F0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442-881A-4579-AD6E-B2BE69028C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5EE-A481-4B9B-A9BF-3278B571AD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8202-5F01-48B2-B4D7-2472B72642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DDEF-C0ED-4308-936D-06B2B6026B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69A-051F-4B34-8CA5-EE1FFAF0C3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1714-3528-4402-BC40-459778DA63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B26-5F80-4DDE-8F74-F5F7968D02E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5E1-486D-4FB6-8B23-A1E7FB57E1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D2AD-B8CA-4DD9-884D-122E3454D0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CA91-A590-445C-8A76-BDB4E08990C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45C1-1F9E-489C-959B-0351B56C615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386F-D789-4EAC-A5AA-C928F773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374-5DC7-438B-B704-2AB4350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E3A-2B27-47C2-AA39-396FD0E6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A7A-8178-43B8-A164-D38B69A0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45F-5A2A-49FC-9224-8C35666C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0C4-99BA-468A-A8DE-8941680D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26AA-5B01-4130-BAE2-4E12E422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E4E-5A00-48D3-8D1C-219F9E1F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804-BFB7-408B-AD6F-DAAB38D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6B1-E70B-49E1-9EEB-89FC065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B076-BFF6-472F-98D1-D6B646BC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65D-73FA-453C-97F9-8222E51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89F-B4AA-4F62-AD85-1113EB78699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Arial Black"/>
              </a:rPr>
              <a:t>ПРЕДМЕТЫ В ДОМ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5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УТЮГ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SHMBSA-02103"/>
          <p:cNvPicPr/>
          <p:nvPr/>
        </p:nvPicPr>
        <p:blipFill>
          <a:blip r:embed="rId2"/>
          <a:stretch/>
        </p:blipFill>
        <p:spPr>
          <a:xfrm>
            <a:off x="2438280" y="1523880"/>
            <a:ext cx="467208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7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ГЛАДИЛЬНАЯ ДО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00803_1073_7399_vnvv"/>
          <p:cNvPicPr/>
          <p:nvPr/>
        </p:nvPicPr>
        <p:blipFill>
          <a:blip r:embed="rId2"/>
          <a:stretch/>
        </p:blipFill>
        <p:spPr>
          <a:xfrm>
            <a:off x="1523880" y="1981080"/>
            <a:ext cx="624996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644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В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5" descr="000803_1067_5151_vnvv"/>
          <p:cNvPicPr/>
          <p:nvPr/>
        </p:nvPicPr>
        <p:blipFill>
          <a:blip r:embed="rId1"/>
          <a:stretch/>
        </p:blipFill>
        <p:spPr>
          <a:xfrm>
            <a:off x="2209680" y="1523880"/>
            <a:ext cx="5257800" cy="501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7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ШКАТУ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00803_1052_7923_vuvv"/>
          <p:cNvPicPr/>
          <p:nvPr/>
        </p:nvPicPr>
        <p:blipFill>
          <a:blip r:embed="rId2"/>
          <a:stretch/>
        </p:blipFill>
        <p:spPr>
          <a:xfrm>
            <a:off x="2057400" y="1676520"/>
            <a:ext cx="5129280" cy="421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19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ОНТ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hhca007j"/>
          <p:cNvPicPr/>
          <p:nvPr/>
        </p:nvPicPr>
        <p:blipFill>
          <a:blip r:embed="rId1"/>
          <a:srcRect l="13769" t="7678" r="0" b="0"/>
          <a:stretch/>
        </p:blipFill>
        <p:spPr>
          <a:xfrm>
            <a:off x="1600200" y="1219320"/>
            <a:ext cx="4794120" cy="5113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57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ДЕЯ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6" descr="000803_1053_0383_vuvv"/>
          <p:cNvPicPr/>
          <p:nvPr/>
        </p:nvPicPr>
        <p:blipFill>
          <a:blip r:embed="rId1"/>
          <a:stretch/>
        </p:blipFill>
        <p:spPr>
          <a:xfrm>
            <a:off x="1371600" y="1523880"/>
            <a:ext cx="6221520" cy="4680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06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ТИЛЯТ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SHMSWA-021694"/>
          <p:cNvPicPr/>
          <p:nvPr/>
        </p:nvPicPr>
        <p:blipFill>
          <a:blip r:embed="rId1"/>
          <a:stretch/>
        </p:blipFill>
        <p:spPr>
          <a:xfrm>
            <a:off x="2895480" y="1523880"/>
            <a:ext cx="4570560" cy="5027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200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ВЕТ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liberty_lamp"/>
          <p:cNvPicPr/>
          <p:nvPr/>
        </p:nvPicPr>
        <p:blipFill>
          <a:blip r:embed="rId1"/>
          <a:stretch/>
        </p:blipFill>
        <p:spPr>
          <a:xfrm>
            <a:off x="3124080" y="1676520"/>
            <a:ext cx="3232440" cy="448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29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НИЖНАЯ ПО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52_7902_vuvv"/>
          <p:cNvPicPr/>
          <p:nvPr/>
        </p:nvPicPr>
        <p:blipFill>
          <a:blip r:embed="rId1"/>
          <a:stretch/>
        </p:blipFill>
        <p:spPr>
          <a:xfrm>
            <a:off x="635040" y="2286000"/>
            <a:ext cx="8508960" cy="367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62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АЗ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67_5154_vnvv"/>
          <p:cNvPicPr/>
          <p:nvPr/>
        </p:nvPicPr>
        <p:blipFill>
          <a:blip r:embed="rId1"/>
          <a:stretch/>
        </p:blipFill>
        <p:spPr>
          <a:xfrm>
            <a:off x="2514600" y="1905120"/>
            <a:ext cx="4572000" cy="43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2296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57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ЛЮЧИ  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7" descr="keyring"/>
          <p:cNvPicPr/>
          <p:nvPr/>
        </p:nvPicPr>
        <p:blipFill>
          <a:blip r:embed="rId1"/>
          <a:stretch/>
        </p:blipFill>
        <p:spPr>
          <a:xfrm>
            <a:off x="2438280" y="2286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7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ЕРКАЛО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6" descr="SHMSWA-021605"/>
          <p:cNvPicPr/>
          <p:nvPr/>
        </p:nvPicPr>
        <p:blipFill>
          <a:blip r:embed="rId1"/>
          <a:srcRect l="0" t="0" r="0" b="44170"/>
          <a:stretch/>
        </p:blipFill>
        <p:spPr>
          <a:xfrm>
            <a:off x="2971800" y="1523880"/>
            <a:ext cx="3813120" cy="5334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6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ОДСВЕЧ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000803_1052_1470_vuvv"/>
          <p:cNvPicPr/>
          <p:nvPr/>
        </p:nvPicPr>
        <p:blipFill>
          <a:blip r:embed="rId1"/>
          <a:stretch/>
        </p:blipFill>
        <p:spPr>
          <a:xfrm>
            <a:off x="2971800" y="1523880"/>
            <a:ext cx="3424320" cy="5105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17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РТИН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05920" y="-5335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2"/>
          <p:cNvSpPr/>
          <p:nvPr/>
        </p:nvSpPr>
        <p:spPr>
          <a:xfrm>
            <a:off x="2209680" y="1295280"/>
            <a:ext cx="4572000" cy="5181840"/>
          </a:xfrm>
          <a:prstGeom prst="bevel">
            <a:avLst>
              <a:gd name="adj" fmla="val 71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13" descr="hbsobta-07350"/>
          <p:cNvPicPr/>
          <p:nvPr/>
        </p:nvPicPr>
        <p:blipFill>
          <a:blip r:embed="rId2"/>
          <a:stretch/>
        </p:blipFill>
        <p:spPr>
          <a:xfrm>
            <a:off x="2514600" y="1600200"/>
            <a:ext cx="3948120" cy="45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056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6" descr="000803_1067_6209_vnvv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4495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896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В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hhbo030j"/>
          <p:cNvPicPr/>
          <p:nvPr/>
        </p:nvPicPr>
        <p:blipFill>
          <a:blip r:embed="rId1"/>
          <a:stretch/>
        </p:blipFill>
        <p:spPr>
          <a:xfrm>
            <a:off x="2133720" y="1843200"/>
            <a:ext cx="4736880" cy="42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4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ВЕШАЛ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7" descr="hhsi049j"/>
          <p:cNvPicPr/>
          <p:nvPr/>
        </p:nvPicPr>
        <p:blipFill>
          <a:blip r:embed="rId1"/>
          <a:stretch/>
        </p:blipFill>
        <p:spPr>
          <a:xfrm>
            <a:off x="2362320" y="1981080"/>
            <a:ext cx="4925880" cy="3281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976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Е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000803_1079_7287_vuvv"/>
          <p:cNvPicPr/>
          <p:nvPr/>
        </p:nvPicPr>
        <p:blipFill>
          <a:blip r:embed="rId1"/>
          <a:stretch/>
        </p:blipFill>
        <p:spPr>
          <a:xfrm>
            <a:off x="1828800" y="1600200"/>
            <a:ext cx="5918040" cy="4594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53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РАСЧЕС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5" descr="000803_1054_6236_vnvv"/>
          <p:cNvPicPr/>
          <p:nvPr/>
        </p:nvPicPr>
        <p:blipFill>
          <a:blip r:embed="rId1"/>
          <a:stretch/>
        </p:blipFill>
        <p:spPr>
          <a:xfrm>
            <a:off x="3505320" y="1905120"/>
            <a:ext cx="2128680" cy="457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84582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045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МНАТНОЕ РАСТЕНИЕ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geranium"/>
          <p:cNvPicPr/>
          <p:nvPr/>
        </p:nvPicPr>
        <p:blipFill>
          <a:blip r:embed="rId1"/>
          <a:stretch/>
        </p:blipFill>
        <p:spPr>
          <a:xfrm>
            <a:off x="2286000" y="1371600"/>
            <a:ext cx="4525920" cy="5029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87631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230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ЛАМПОЧК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SHMIDA-031599"/>
          <p:cNvPicPr/>
          <p:nvPr/>
        </p:nvPicPr>
        <p:blipFill>
          <a:blip r:embed="rId1"/>
          <a:stretch/>
        </p:blipFill>
        <p:spPr>
          <a:xfrm>
            <a:off x="2438280" y="1905120"/>
            <a:ext cx="4260960" cy="401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8534520" y="-8380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587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МО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5" descr="lock"/>
          <p:cNvPicPr/>
          <p:nvPr/>
        </p:nvPicPr>
        <p:blipFill>
          <a:blip r:embed="rId1"/>
          <a:stretch/>
        </p:blipFill>
        <p:spPr>
          <a:xfrm>
            <a:off x="2514600" y="1828800"/>
            <a:ext cx="4394160" cy="43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4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ЛЬКУЛЯТОР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Picture 9" descr="010409_0714_1353_vuvv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395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587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НОЖНИЦ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6" descr="m2211"/>
          <p:cNvPicPr/>
          <p:nvPr/>
        </p:nvPicPr>
        <p:blipFill>
          <a:blip r:embed="rId1"/>
          <a:stretch/>
        </p:blipFill>
        <p:spPr>
          <a:xfrm>
            <a:off x="2133720" y="2057400"/>
            <a:ext cx="5257800" cy="3938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2045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УШИЛКА ДЛЯ БЕЛЬЯ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7" descr="SHMSWA-021591"/>
          <p:cNvPicPr/>
          <p:nvPr/>
        </p:nvPicPr>
        <p:blipFill>
          <a:blip r:embed="rId1"/>
          <a:stretch/>
        </p:blipFill>
        <p:spPr>
          <a:xfrm>
            <a:off x="2133720" y="2057400"/>
            <a:ext cx="5027400" cy="3703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2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ЧАС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RF4521752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4778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6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ВИЗО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000803_1057_5941_vnvv"/>
          <p:cNvPicPr/>
          <p:nvPr/>
        </p:nvPicPr>
        <p:blipFill>
          <a:blip r:embed="rId2"/>
          <a:stretch/>
        </p:blipFill>
        <p:spPr>
          <a:xfrm>
            <a:off x="2057400" y="1828800"/>
            <a:ext cx="5029200" cy="44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6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ЫЛЕСОС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vacuum"/>
          <p:cNvPicPr/>
          <p:nvPr/>
        </p:nvPicPr>
        <p:blipFill>
          <a:blip r:embed="rId1"/>
          <a:stretch/>
        </p:blipFill>
        <p:spPr>
          <a:xfrm>
            <a:off x="2971800" y="1295280"/>
            <a:ext cx="3429000" cy="517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ЛЕФОН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phone_1"/>
          <p:cNvPicPr/>
          <p:nvPr/>
        </p:nvPicPr>
        <p:blipFill>
          <a:blip r:embed="rId1"/>
          <a:stretch/>
        </p:blipFill>
        <p:spPr>
          <a:xfrm>
            <a:off x="2362320" y="213372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86868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7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ЛОНКИ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9" name="Picture 5" descr="000803_1057_5881_vnvv"/>
          <p:cNvPicPr/>
          <p:nvPr/>
        </p:nvPicPr>
        <p:blipFill>
          <a:blip r:embed="rId1"/>
          <a:stretch/>
        </p:blipFill>
        <p:spPr>
          <a:xfrm>
            <a:off x="2362320" y="1676520"/>
            <a:ext cx="5181480" cy="4819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27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УДИЛЬНИК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250041"/>
          <p:cNvPicPr/>
          <p:nvPr/>
        </p:nvPicPr>
        <p:blipFill>
          <a:blip r:embed="rId1"/>
          <a:stretch/>
        </p:blipFill>
        <p:spPr>
          <a:xfrm>
            <a:off x="2971800" y="1905120"/>
            <a:ext cx="3560760" cy="434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916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46:23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